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5AD-5CC4-4C35-A309-E8918C9B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FDD-CD89-49BE-A39A-E7CE4302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CB6-37E1-4DF9-AD2A-32E7DD25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B32-FF49-47F6-9A4F-F93CA9AC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A55C0-7201-403A-8304-74E97394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D74E9-AA10-43FA-90AD-AADA5D7A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9B7F7-FFA4-4DD3-84F2-F551BC04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292A5-9C01-4F3C-AC4A-E600A43D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9A261-9448-49EE-8DC4-CC6B6334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495D0-A9EE-44B0-8974-2F9F93A5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AAE43-E348-427C-A8CE-D98689CB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AE1-DE7D-4E7B-B3E6-67D7D32E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29D91-C42C-468F-B1A4-60C8A7C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9272E-D769-4F6F-AC03-274C227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6AEDA-3138-4B9C-A38C-CD61A059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DF7FF-056D-430A-8B18-EC3BBD70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9721-5B98-4023-BF53-A45E4604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74BB-70D2-4A61-B85F-09251AE0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1AD9-5486-4A93-8949-6A5D5C34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8724-22D3-4B7E-9453-0E3C622A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E950-39FB-45D5-AD60-D0A9F8D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D94C-7B3B-4373-9F20-7D7C8CE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4BB-C5D0-4060-9072-6E3C8ED7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7F98-E870-4247-AF77-986E9762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93CF-9B6D-4C69-AB20-3F7AFB6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2600-6302-499D-BACD-03E3EA0E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7052-79B4-4803-9B2B-B08DD8DF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F823-99F5-42C2-9668-5B1BFEBE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E5CD-D10E-4C85-BB99-F3ACE3D5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18F6-53BF-4B25-82AD-1BF1C1F0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6075-34A3-4693-8986-3522CE4B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0F8E-3982-491E-AEC0-AEF2442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AB506-0B47-4E53-A930-E0E52746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1FF-ACB9-49A9-8360-1D6BD16C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A370E-4071-44D1-94F1-0A7471C4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9D51-4F63-4C84-9EA1-127B663C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2D08-8DFA-46B3-9A62-79D0C73A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FAEF-8608-4036-A94B-F5013250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2671-19FC-40A0-88F2-7F835A8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8D2BF-02D9-4A68-9EBE-0E031AB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21194-C20E-45E2-B834-CF6EA185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9C00-37DB-45F3-9CFB-D1D74C7F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0549E-3AB2-4E6C-943B-6148596C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398D-D8F9-4A83-BB3D-9358CD9A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686-A692-4D45-B590-0A8AF478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108F-AB1B-44C6-B612-DA5331C7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6F3C1-9D68-400E-81BC-28944D6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BC451-300C-4C01-9FEF-40A99A7D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31286-EA6E-45B2-A167-989108F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1628C-1C70-472C-8131-30F09BE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A5C8F-E241-44EB-8397-C184492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B8155-BBA7-453F-A2E0-2A0B9E73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0F4F-1B14-4914-A715-4421F5D3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9D678-C658-4908-AFD5-5EA664C8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DF5FA-078A-42D5-A011-DC471D18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D86-BA51-4DBB-BC8A-B7A120CD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B609-2D98-4ED0-8C96-9F7ECCAE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E01F-1402-4023-8D9E-0E42B99F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CFA8-EA4A-4CCE-9F4F-C1E065AC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FE664-05F3-4627-B559-BECC985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663F5-B686-4D7C-8D19-C85A1B68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C18C1-956F-47AA-ABE5-B92865E1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BD65-5F6E-4A0E-BC32-709F5960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8F233-01F5-429F-BC53-5EBCB13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E817-CBEC-47F6-B753-A13889E7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46507-B6CF-40FA-886A-B9410D3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2D3-A9A0-4E92-9FDF-72E0F02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484D-BC54-4D82-9B2A-3EB2879F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C6687-2FE8-4E9B-A519-E8634B85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FBCC6-83D4-4894-9A56-12FB8689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9414-C286-4EF5-8E69-773A26F6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33AAC-F910-4841-8C70-0AE49AF9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527C8-9B3C-43F8-93F9-DF953B4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7451-C308-4EB9-B3D3-C13A7CDC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F6A6D-0FA0-4158-9AD3-F670449B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FC77-D047-4BAD-AC6D-5B24DFCD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32FA7-2AD5-41FA-9118-AC90A91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20E-3811-4F30-8D9B-BE0EB54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59E19-E0AE-4B16-A52D-DAC233C8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C9E7-AE40-4D0D-BE82-2A954CF6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31BB1-A482-486C-9C4C-D745707D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F4F3D-6B7B-4B20-A3E8-3B3886BF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225BA-8999-4F95-8ACA-37023482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5A18-FA5D-43D3-8CC2-94F9F541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C6ED5-D487-45F2-B6B2-6B0AB35A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1236E-CBD9-46B1-9A35-3F767E21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AC1B4-902B-4A4A-A68F-96D63AF7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D67EB-170F-4937-8CAB-6738E2BC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660-41A3-48BD-8948-17F49AE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8323-A1F2-47D2-AD30-897DDE9F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ADE99-2FD2-4E95-8E20-FCEE0F9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55EAF-EB1B-4F2C-B317-98B23DB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37AA0-969D-40BB-A875-C002A59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E93FE-8B55-4547-8512-AA0E641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CC233-1AAB-4F1D-885A-A89B72D8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D0105-E985-4416-B14E-62B87166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C3F1D-BDF7-472E-94E2-36273F4CC01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9A6C9-25D5-4E2D-8CEA-DC44C873417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E3254-13B1-4E0D-B166-E7C69670780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2900E-75BA-448F-9E64-37CB2117F76D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05111-9A81-497A-A116-C02223CCAFE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13AF4-C737-47BC-AD2B-B928313F0FC4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4327A-39A6-4C1F-8802-D0D186F9803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719FD-4DF7-4EC5-93A3-16DFFCDAD0B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5BC52-CF7B-4638-B4AF-94B1C3FE37C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BCF68-796C-479C-A409-750C68C919A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B0418-F532-4E9A-AFF8-C65A0EB34B1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3CB51-8F7B-45C6-BC6C-D4CCCB58C8B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CD743-1C02-496C-BE92-EF85E412699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DFA0C-227C-4184-9DD2-2DAD621BE27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3204D-5B5F-46E3-B507-AD7BD87BF19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BC008-EE69-4168-9C06-5A252DB4EA8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odlands-junior.kent.sch.uk/Homework/Egypt.html" TargetMode="External"/><Relationship Id="rId2" Type="http://schemas.openxmlformats.org/officeDocument/2006/relationships/hyperlink" Target="http://www.love-egypt.com/map-of-egypt.htmlhttp://historylink101.net/egypt_1/a-education.htm" TargetMode="External"/><Relationship Id="rId3" Type="http://schemas.openxmlformats.org/officeDocument/2006/relationships/hyperlink" Target="http://www.king-tut.org.uk/ancient-egyptians/ancient-egyptian-education.htm" TargetMode="External"/><Relationship Id="rId4" Type="http://schemas.openxmlformats.org/officeDocument/2006/relationships/hyperlink" Target="http://en.wikipedia.org/wiki/Ancient_Egypt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Ancient Egypt</a:t>
            </a: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	</a:t>
            </a: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By: Florian, Aliya, and Chrissi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he Rosetta Ston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Discovered by Napoleons soldiers' while digging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1400 years after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Was the key to unlocking the mystery of ancient Egyptian hieroglyphic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90" name="Content Placeholder 8" descr="rosetta-stone.jpeg"/>
          <p:cNvPicPr/>
          <p:nvPr/>
        </p:nvPicPr>
        <p:blipFill>
          <a:blip r:embed="rId1"/>
          <a:srcRect l="-11041" t="0" r="-11041" b="0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8319960" y="61196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Government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volved around one figure – The pharao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iving Go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eocrac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ies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rmy commanders, chief treasurers, the minister of public works, and tax collecto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ax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aw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ws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haraoh head of legal system – made law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aws based on common sense view of right and wrong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unishments for minor crime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unishment for serious crimes (tomb raiding, murder)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ew Kingdom – oracles played major role in decision making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cient Egyptian Econom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rade on the Mediterranean Sea, Aegean Sea, and the Red Sea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ther countries bought goods silver, iron, cedar logs, horses, ivory, copper, cattle, leopard skins, and spices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ain good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st was measured in a deb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Jobs : Merchants, farmers, artist, soldie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ass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cient Egyptian Economy Graph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2" name="Content Placeholder 3" descr=""/>
          <p:cNvPicPr/>
          <p:nvPr/>
        </p:nvPicPr>
        <p:blipFill>
          <a:blip r:embed="rId1"/>
          <a:stretch/>
        </p:blipFill>
        <p:spPr>
          <a:xfrm>
            <a:off x="2279520" y="2279520"/>
            <a:ext cx="6212160" cy="38530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5"/>
          <p:cNvSpPr/>
          <p:nvPr/>
        </p:nvSpPr>
        <p:spPr>
          <a:xfrm>
            <a:off x="1170000" y="275760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658800" y="387684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658800" y="528156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6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he Golden Coi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63480" y="2293560"/>
            <a:ext cx="3657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Archeologists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discovered ancient Egyptian coin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ame and image of the biblical Joseph, Cairo's Al Ahram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ewspaper from Egypt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Journalist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9" name="Content Placeholder 6" descr="AE-golden-coin.JPG"/>
          <p:cNvPicPr/>
          <p:nvPr/>
        </p:nvPicPr>
        <p:blipFill>
          <a:blip r:embed="rId1"/>
          <a:srcRect l="-5927" t="0" r="-5927" b="0"/>
          <a:stretch/>
        </p:blipFill>
        <p:spPr>
          <a:xfrm>
            <a:off x="4827600" y="2797200"/>
            <a:ext cx="3657600" cy="33289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rt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58800" y="2285640"/>
            <a:ext cx="5121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r over 3500 year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Paint made out of mineral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ron ores (red and yellow ochres), copper ores (blue and green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oot or charcoal (black), and limestone (white).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5354640" y="4222800"/>
            <a:ext cx="3110040" cy="232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5621400" y="2004840"/>
            <a:ext cx="2913120" cy="19432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rt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Why they did art?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To make them proud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ead Man standing in the barge of the sun worshiping the phoenix, symoble of the sun god of Heliopolis, Tomb of Irinefer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83084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830840" y="2911320"/>
            <a:ext cx="3652920" cy="24354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5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Religion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olytheistic – worshipped more than 2,000 gods and goddess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Believed in afterlife – Anubis god of the underworld weighed dead person’s heart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All classes planned for burials – royals built large tombs and pyramids, others built smaller tomb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Royal and elite Egyptians preserved by mummificatio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3" name="Content Placeholder 4" descr="giza-pyramids-at-dusk.jpg"/>
          <p:cNvPicPr/>
          <p:nvPr/>
        </p:nvPicPr>
        <p:blipFill>
          <a:blip r:embed="rId1"/>
          <a:srcRect l="0" t="-20087" r="0" b="-20087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ubis - god of the dead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The god and guide of the underworld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Weigh each dead person’s heart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Test for purity and truth, if passed would live forever in the beautiful Other World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Win eternal life if no heavier than a feather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If tipped scale the heart was heavy with sin 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Would oversee the embalming and mummification of the dead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sto MT"/>
              </a:rPr>
              <a:t>Today still worshipped by sects of pagan religions</a:t>
            </a:r>
            <a:endParaRPr b="0" lang="en-US" sz="1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7" name="Content Placeholder 13" descr="E110SPM2.jpg"/>
          <p:cNvPicPr/>
          <p:nvPr/>
        </p:nvPicPr>
        <p:blipFill>
          <a:blip r:embed="rId1"/>
          <a:srcRect l="-21713" t="0" r="-21713" b="0"/>
          <a:stretch/>
        </p:blipFill>
        <p:spPr>
          <a:xfrm>
            <a:off x="4727520" y="2057400"/>
            <a:ext cx="3629160" cy="3373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658800" y="455760"/>
            <a:ext cx="78249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4" descr=""/>
          <p:cNvPicPr/>
          <p:nvPr/>
        </p:nvPicPr>
        <p:blipFill>
          <a:blip r:embed="rId2"/>
          <a:stretch/>
        </p:blipFill>
        <p:spPr>
          <a:xfrm>
            <a:off x="4971960" y="5538960"/>
            <a:ext cx="3243240" cy="9302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6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ontents</a:t>
            </a: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	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Introduction to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Education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Laws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Religion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Art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Culture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Language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Economy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Government in Ancient Egypt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Bibliography 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1" name="Content Placeholder 4" descr="pyramid3.jpg"/>
          <p:cNvPicPr/>
          <p:nvPr/>
        </p:nvPicPr>
        <p:blipFill>
          <a:blip r:embed="rId1"/>
          <a:srcRect l="0" t="-28636" r="0" b="-28636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cient Egyptian Cultu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588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ligion really importa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en and women had many of the same righ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am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ost slaves were farmer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smetics for work and pla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rcRect l="0" t="0" r="0" b="45022"/>
          <a:stretch/>
        </p:blipFill>
        <p:spPr>
          <a:xfrm>
            <a:off x="4951440" y="3843360"/>
            <a:ext cx="3809880" cy="1557360"/>
          </a:xfrm>
          <a:prstGeom prst="rect">
            <a:avLst/>
          </a:prstGeom>
          <a:ln w="0">
            <a:noFill/>
          </a:ln>
        </p:spPr>
      </p:pic>
      <p:sp>
        <p:nvSpPr>
          <p:cNvPr id="434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ncient Egyptian Cultu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29960" y="2785680"/>
            <a:ext cx="6197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e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oyal dog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urge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apyrus grower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nguage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First pictograph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Got more flexible 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Hieroglyphic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From greek word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Meaning “sacred carving”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Each picture stood for an idea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Papyrus made out of reeds and used as paper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nguage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42" name="Content Placeholder 3" descr="egypt2.jpg"/>
          <p:cNvPicPr/>
          <p:nvPr/>
        </p:nvPicPr>
        <p:blipFill>
          <a:blip r:embed="rId1"/>
          <a:srcRect l="-21429" t="0" r="-21429" b="0"/>
          <a:stretch/>
        </p:blipFill>
        <p:spPr>
          <a:xfrm>
            <a:off x="65880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83084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The hieroglyphics these are the letters they used to write with and they also used them to do art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4" name="TextBox 6"/>
          <p:cNvSpPr/>
          <p:nvPr/>
        </p:nvSpPr>
        <p:spPr>
          <a:xfrm>
            <a:off x="227160" y="1417680"/>
            <a:ext cx="601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ibliograph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f8e1c"/>
                </a:solidFill>
                <a:uFillTx/>
                <a:latin typeface="Calisto MT"/>
                <a:hlinkClick r:id="rId1"/>
              </a:rPr>
              <a:t>http://www.woodlands-junior.kent.sch.uk/Homework/Egypt.html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f8e1c"/>
                </a:solidFill>
                <a:uFillTx/>
                <a:latin typeface="Calisto MT"/>
                <a:hlinkClick r:id="rId2"/>
              </a:rPr>
              <a:t>http://www.love-egypt.com/map-of-egypt.htmlhttp://historylink101.net/egypt_1/a-education.htm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f8e1c"/>
                </a:solidFill>
                <a:uFillTx/>
                <a:latin typeface="Calisto MT"/>
                <a:hlinkClick r:id="rId3"/>
              </a:rPr>
              <a:t>http://www.king-tut.org.uk/ancient-egyptians/ancient-egyptian-education.htm</a:t>
            </a:r>
            <a:r>
              <a:rPr b="0" lang="en-US" sz="1900" spc="-1" strike="noStrike" u="sng">
                <a:solidFill>
                  <a:srgbClr val="262626"/>
                </a:solidFill>
                <a:uFillTx/>
                <a:latin typeface="Calisto MT"/>
              </a:rPr>
              <a:t> 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f8e1c"/>
                </a:solidFill>
                <a:uFillTx/>
                <a:latin typeface="Calisto MT"/>
                <a:hlinkClick r:id="rId4"/>
              </a:rPr>
              <a:t>http://en.wikipedia.org/wiki/Ancient_Egypt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http://www.ancient-egypt-online.com/ancient-egyptian-gods-anubis.html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bri"/>
              </a:rPr>
              <a:t>http://liology.wordpress.com/2010/01/13/the-rosetta-stone-of-metaphysics-the-li/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ibliography 2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ttp://www.womenintheancientworld.com/economy.htm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ttp://home.earthlink.net/~marond/economy_pink.html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ttp://nefertiti.iwebland.com/economy/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http://en.wikipedia.org/wiki/Ancient_Egyp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http://www.ancientegypt.co.uk/life/home.htm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http://www.ancientegypt.co.uk/time/home.htm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http://www.allaboutwheat.info/history.htm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hank You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375080" y="2752560"/>
            <a:ext cx="352584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2626"/>
                </a:solidFill>
                <a:latin typeface="Calisto MT"/>
              </a:rPr>
              <a:t>Thank you for your time … we hope you learnt more about ANCIENT EGYPT!!</a:t>
            </a:r>
            <a:endParaRPr b="0" lang="en-US" sz="29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790560" y="2536920"/>
            <a:ext cx="2793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imeline of the Ancient Egyptian Civiliz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63" name="Content Placeholder 5" descr="egypt_time-line2.gif"/>
          <p:cNvPicPr/>
          <p:nvPr/>
        </p:nvPicPr>
        <p:blipFill>
          <a:blip r:embed="rId1"/>
          <a:srcRect l="0" t="-6677" r="0" b="-6677"/>
          <a:stretch/>
        </p:blipFill>
        <p:spPr>
          <a:xfrm>
            <a:off x="1252440" y="2116080"/>
            <a:ext cx="6861240" cy="42512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sto MT"/>
              </a:rPr>
              <a:t>Where is Ancient Egypt?</a:t>
            </a:r>
            <a:endParaRPr b="0" lang="en-US" sz="3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Egypt is in the northeast of Africa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River Nile flows through Egypt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Ancient Egyptians settled along the river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Farmers first settles in 5000BCE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917960" y="1989000"/>
            <a:ext cx="3249720" cy="3022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"/>
          <p:cNvPicPr/>
          <p:nvPr/>
        </p:nvPicPr>
        <p:blipFill>
          <a:blip r:embed="rId2"/>
          <a:stretch/>
        </p:blipFill>
        <p:spPr>
          <a:xfrm>
            <a:off x="4917960" y="4929120"/>
            <a:ext cx="3249720" cy="1617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en did the civilization start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tarted 3100BC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Lasted 3000 year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any changes and turn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31 dynasties in total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2" name="Content Placeholder 4" descr="dfsa"/>
          <p:cNvPicPr/>
          <p:nvPr/>
        </p:nvPicPr>
        <p:blipFill>
          <a:blip r:embed="rId1"/>
          <a:srcRect l="0" t="-34508" r="0" b="-34508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lived in this area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nded by a King Men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43B.C.E. The Roman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eopatra VII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e Islamic Empire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ttoman Turks - 1517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14</a:t>
            </a:r>
            <a:r>
              <a:rPr b="0" lang="en-US" sz="2000" spc="-1" strike="noStrike" baseline="30000">
                <a:solidFill>
                  <a:srgbClr val="262626"/>
                </a:solidFill>
                <a:latin typeface="Calisto MT"/>
              </a:rPr>
              <a:t>th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century – black deat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was their purpose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Invention and Idea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yramids and Tomb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Valley of the King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Engineering Idea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Cairo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9" name="Content Placeholder 6" descr="Egyptians.jpg"/>
          <p:cNvPicPr/>
          <p:nvPr/>
        </p:nvPicPr>
        <p:blipFill>
          <a:blip r:embed="rId1"/>
          <a:srcRect l="0" t="-24958" r="0" b="-24958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How did if form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58800" y="2285640"/>
            <a:ext cx="3657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5000BCE lived in farming villages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Had rituals, gods, and chieftai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3000BCE united into 2 kingdoms, Lower Egypt and Upper Egypt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3100BCE King Menes united both kingdoms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83" name="Content Placeholder 4" descr="images.jpg"/>
          <p:cNvPicPr/>
          <p:nvPr/>
        </p:nvPicPr>
        <p:blipFill>
          <a:blip r:embed="rId1"/>
          <a:srcRect l="-37798" t="0" r="-37798" b="0"/>
          <a:stretch/>
        </p:blipFill>
        <p:spPr>
          <a:xfrm>
            <a:off x="4830840" y="2286000"/>
            <a:ext cx="3657600" cy="38401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Education in Ancient Egyp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yed with mothers until 4 years ol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athers educated boys after first 4 years, usually follow in trade of fathe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chools for royalty, wealthy, scribes or pries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irls educated by mother – house keeping, cooking, brewing, making cloth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omen excluded from ruling bureaucracy, temple elite, not eligible to work as scribes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8319960" y="61088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06:21Z</dcterms:created>
  <dc:creator>IT User</dc:creator>
  <dc:description/>
  <dc:language>en-US</dc:language>
  <cp:lastModifiedBy>IT User</cp:lastModifiedBy>
  <dcterms:modified xsi:type="dcterms:W3CDTF">2010-10-05T07:40:40Z</dcterms:modified>
  <cp:revision>20</cp:revision>
  <dc:subject/>
  <dc:title>Ancient Egypt  </dc:title>
</cp:coreProperties>
</file>